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F0D0-D183-454C-9FDE-B2D2AA9C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4F36-3619-4F69-A13D-A78A031F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1D89-867E-4186-91A1-2018A1B1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B161-423E-4B99-B837-059E2141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4A7A-6FF7-458B-B899-794D745D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DE1E-7A56-424F-BBEE-192AD44F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4003-159C-43E4-9AA4-6B12BA6C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16A2-0DD2-414E-9C35-933F80AD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6329-B4C3-43CB-A759-32B50452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DACA-7EBA-45F5-ADD1-71AAE5A3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0311-CED9-4DEC-965D-08F1442E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4A0B-74D2-4DF6-9388-1AC041A5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D7FA-3214-444E-82C8-EF3DDC51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6729-8707-4DB6-86A3-934CCAFE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7E72-2100-4F14-A712-73011842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2E00-4391-4AD4-84AF-85EB5BA0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ED48-9205-4584-81DC-8BB4D66B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0D68-0C81-4CFA-B915-EC7C6EE1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F0AA-AE26-449D-8750-4FE43A8E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0CFE-540B-4A00-9A7C-32186932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899A-303B-41CD-A173-01572C1F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E8F3-3024-4B8D-B5FC-27FB30C9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5802-8E64-4AB9-B784-9D6B96B9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3CB4-F765-44EF-9452-48396115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C3DC-85E7-4A96-B6B9-E2510113AB1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883908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B3EA-7C20-49B6-903F-B3F7B2589FA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839080" y="266688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ive Us A King -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United Kingdom, Part 2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5, Lesson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Samuel 24:1-25, 22:1-51, 23:1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97-1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avid Numbers Israel and Judah 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 Samuel 24:1-9; 1 Chron. 21:1-22:1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2044440"/>
            <a:ext cx="761976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tempted by Satan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 Chron. 21: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ab ordered to number the fighting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from other “numbering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’s reason - “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y know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ab protested - but followed 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0,000 in Israel; 500,000 in Ju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od Punishes David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 Samuel 24:10-13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’s conscience bothered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asked for forgiv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het Gad to David - choose one of three punish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years of fam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months fleeing from his enem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days of pesti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od Punishes David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 Samuel 24:14-17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2640" y="2044800"/>
            <a:ext cx="800100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humbled himself before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ent pestilence upon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0,000 men d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topped the angel before Jerusa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’s interc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ng it upon me and my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od Punishes David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 Samuel 24:18-25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required to build an altar at Araunah’s (or Ornan) threshing fl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aunah’s genero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David bought the threshing fl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the altar (future location of the temp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ered sacrif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yed to Go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lague stopp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avid’s Song of Praise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 Samuel 22:1-51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5438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ten after God delivered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he hands of his enemies,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he hand of Sa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express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God has been with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need to call upon the Lord for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rewarded according to righteous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lete destruction of his enem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God be the glory and cre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Last Psalm of David 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 Samuel 23:1-7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- the son of Jesse, raised up on high, anointed of God, a sweet psalm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pired of the Holy Spir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description of the ruler no doubt refers to the ruler with an everlasting covenant (Chri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ce the fate of the ungodly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6T01:04:10Z</dcterms:created>
  <dc:creator>Don Vines</dc:creator>
  <dc:description/>
  <dc:language>en-US</dc:language>
  <cp:lastModifiedBy>Frank D Vines</cp:lastModifiedBy>
  <dcterms:modified xsi:type="dcterms:W3CDTF">2005-07-19T14:59:25Z</dcterms:modified>
  <cp:revision>11</cp:revision>
  <dc:subject/>
  <dc:title>Give Us A King -  The United Kingdom</dc:title>
</cp:coreProperties>
</file>